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49F-EB34-4D24-B8F3-4AB145BB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613-0482-4FB3-8FFD-F691050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2B4-C7C0-43DD-A3B5-EFCEE625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0160-C5B3-4596-B933-134C54C5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2271-6A62-4A96-970F-1F75C06B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08CA-02F0-4FB6-A8BC-97D96A23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B63C-B762-430B-86BA-CB30FAAD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77F2-4897-4706-ADEF-B89A9719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5738-C390-43E8-9E79-9C9E94B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BE6-300C-4EFA-A9B9-7646B9F4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79F1-5150-4DB6-A922-6875BE0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623-8486-4083-8D48-3DF0D30B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BB48-C147-400E-BE3C-48D57539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D41B-85A1-454F-980A-1E8C4643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F18E-29BF-4DFE-A60B-6FC31811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BE1F-7F4B-482E-A6FE-D480C145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ED42-61A3-49C1-91B4-E3800C4E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51D-3579-49D3-99AB-97360CE4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E32-42AB-4D49-A948-4F798DF2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842-B69F-4D82-ACF6-F6B1100E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4B9-F65C-420A-9454-8493E788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75F-672B-4DA2-AC51-3825C22F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C28-7310-45D0-A9C9-A8B698ED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85A-89A3-455E-8530-BF5E718B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4E0A-83C6-4D5C-B102-15A007348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603D-4119-42BB-9D8D-10654B878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Multimedia and Society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3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Busines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usinesses use multimedia to sell products and services to consumers all over the globe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9621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e-commerce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-commerce is business transactions conducted over the Internet. These transaction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-to-Business transactions (B2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-to-Consumer (B2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the Workplac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rporations use multimedia and the Internet for: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ee 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way from the off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econ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net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Our Liv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ultimedia has added a new dimension to publishing, news, and entertainment. It is used for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n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z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boo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ic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2743200"/>
            <a:ext cx="8077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872320" y="2057400"/>
            <a:ext cx="3004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Educ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ultimedia and the Internet have provided new ways of teaching and learning, such a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 learning for virtual classrooms or online sch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-based training (CBT) that allows people to learn at their own 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Multimedia in Health Car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ultimedia computer technology has created exciting developments in health care. It is used for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medicin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s can diagnose and monitor patients at remote 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trai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s, nurses, medical researchers, and technicians can get information or use simulations as part of their tra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cal information is available to the public through the Internet and CD-RO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6:48:11Z</dcterms:created>
  <dc:creator>LJ</dc:creator>
  <dc:description/>
  <dc:language>en-US</dc:language>
  <cp:lastModifiedBy>GLENCOE</cp:lastModifiedBy>
  <dcterms:modified xsi:type="dcterms:W3CDTF">2003-01-04T00:15:09Z</dcterms:modified>
  <cp:revision>15</cp:revision>
  <dc:subject/>
  <dc:title>Chapter 3 Multimedia and Society</dc:title>
</cp:coreProperties>
</file>